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44B4-38B0-4936-99B6-D792438CC4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d 'qaujigiarunarputit' in the page stands for: "You can get more information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eraly: "You can begin to know something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d is selected in an Internet page displayed in a browser, and a request is 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NRC to get its decomposition/descri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d was given to us by Jeela Qilliqti in the Inuktitut class at Carleton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eans: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t seems that it just keeps getting more difficul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17348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1734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41734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90476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90476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17348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417348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417348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1640" y="456840"/>
            <a:ext cx="44197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1734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41734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9047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17348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904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552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000" spc="-1" strike="noStrike">
                <a:solidFill>
                  <a:srgbClr val="000000"/>
                </a:solidFill>
                <a:latin typeface="Pigiarniq"/>
              </a:rPr>
              <a:t>ᐃᖃᓗᐃᑦ - ᕕᕗᐊᕆ 15, 2005-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8660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000" spc="-1" strike="noStrike">
                <a:solidFill>
                  <a:srgbClr val="000000"/>
                </a:solidFill>
                <a:latin typeface="Pigiarniq"/>
              </a:rPr>
              <a:t>Iqaluit – 15 février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367000" y="333360"/>
            <a:ext cx="10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AM</a:t>
            </a:r>
            <a:r>
              <a:rPr b="1" lang="sma-SE" sz="2400" spc="-1" strike="noStrike">
                <a:solidFill>
                  <a:srgbClr val="66ff33"/>
                </a:solidFill>
                <a:latin typeface="Pigiarniq"/>
              </a:rPr>
              <a:t>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9461520" cy="7094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7920" y="6171840"/>
            <a:ext cx="67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uqausiup ilanginnik nanisijju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46000" y="779400"/>
            <a:ext cx="758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3600" spc="-1" strike="noStrike">
                <a:solidFill>
                  <a:srgbClr val="ffffff"/>
                </a:solidFill>
                <a:latin typeface="Pigiarniq"/>
              </a:rPr>
              <a:t>ᐅᖃᐅᓯᐅᑉ  ᐃᓚᖏᓐᓂᒃ  ᓇᓂᓯᔾᔪ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18640" y="1628640"/>
            <a:ext cx="7921080" cy="430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umia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jua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i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cc33"/>
                </a:solidFill>
                <a:latin typeface="Times New Roman"/>
              </a:rPr>
              <a:t>bateau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gran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sin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q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u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qattaq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ituellement on les end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cc33"/>
                </a:solidFill>
                <a:latin typeface="Times New Roman"/>
              </a:rPr>
              <a:t>dormi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être en train d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0066ff"/>
                </a:solidFill>
                <a:latin typeface="Times New Roman"/>
              </a:rPr>
              <a:t>causer, faire qu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être quelqu'un qui est&lt;passivisation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66ff"/>
                </a:solidFill>
                <a:latin typeface="Times New Roman"/>
              </a:rPr>
              <a:t>habituellemen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cc3300"/>
                </a:solidFill>
                <a:latin typeface="Times New Roman"/>
              </a:rPr>
              <a:t>ils/elle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umia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iu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ire des bateau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cc33"/>
                </a:solidFill>
                <a:latin typeface="Times New Roman"/>
              </a:rPr>
              <a:t>bateau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construi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mal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a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liu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mblée légis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cc33"/>
                </a:solidFill>
                <a:latin typeface="Times New Roman"/>
              </a:rPr>
              <a:t>suiv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quelque chose qui est &lt;passivisation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66ff"/>
                </a:solidFill>
                <a:latin typeface="Times New Roman"/>
              </a:rPr>
              <a:t>construi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endroit pour, où l'o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21120" y="141120"/>
            <a:ext cx="12985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uffix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0520" y="1933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03880" y="1933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18080" y="434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48120" y="511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5440" y="511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23840" y="511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04680" y="511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57000" y="43480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23840" y="26956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28400" y="26956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33320" y="26956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95440" y="26956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38240" y="26956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76160" y="59101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: n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5910120"/>
            <a:ext cx="9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: ver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7480" y="145800"/>
            <a:ext cx="34164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erminaisons nomina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93880" y="1916280"/>
            <a:ext cx="5302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igl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/la m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igl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u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x/ les deux mai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igl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/les maisons (plusie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igl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la m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igl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m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igl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s la m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igl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nn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s ma m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2525760"/>
            <a:ext cx="2663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/fo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éd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esse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 et no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19600" y="145800"/>
            <a:ext cx="32004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erminaisons verba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48000" y="1844640"/>
            <a:ext cx="453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tak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vung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v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tak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vut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 v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tak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vi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yez-vo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tak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v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la v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tak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vaatig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nous v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tak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a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ce que je v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taku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aving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ce que tu me v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240" y="2301840"/>
            <a:ext cx="258876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j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 et no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 et no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19640" y="140760"/>
            <a:ext cx="1755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ontraint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9520" y="175248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 spéciales sur ce qui do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2362320"/>
            <a:ext cx="13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i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écé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3640" y="3429000"/>
            <a:ext cx="14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loig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92640" y="1752480"/>
            <a:ext cx="169236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édiate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écific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ess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5720" y="518148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jaraqsiurving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u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ga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06960" y="560088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ils vont vers la m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4000" y="4761000"/>
            <a:ext cx="529920" cy="307800"/>
          </a:xfrm>
          <a:custGeom>
            <a:avLst/>
            <a:gdLst/>
            <a:ahLst/>
            <a:rect l="l" t="t" r="r" b="b"/>
            <a:pathLst>
              <a:path w="334" h="194">
                <a:moveTo>
                  <a:pt x="0" y="194"/>
                </a:moveTo>
                <a:cubicBezTo>
                  <a:pt x="5" y="193"/>
                  <a:pt x="43" y="185"/>
                  <a:pt x="50" y="180"/>
                </a:cubicBezTo>
                <a:cubicBezTo>
                  <a:pt x="71" y="167"/>
                  <a:pt x="83" y="140"/>
                  <a:pt x="100" y="123"/>
                </a:cubicBezTo>
                <a:cubicBezTo>
                  <a:pt x="115" y="108"/>
                  <a:pt x="139" y="92"/>
                  <a:pt x="157" y="80"/>
                </a:cubicBezTo>
                <a:cubicBezTo>
                  <a:pt x="159" y="87"/>
                  <a:pt x="162" y="94"/>
                  <a:pt x="164" y="101"/>
                </a:cubicBezTo>
                <a:cubicBezTo>
                  <a:pt x="167" y="113"/>
                  <a:pt x="160" y="132"/>
                  <a:pt x="171" y="137"/>
                </a:cubicBezTo>
                <a:cubicBezTo>
                  <a:pt x="185" y="143"/>
                  <a:pt x="214" y="123"/>
                  <a:pt x="214" y="123"/>
                </a:cubicBezTo>
                <a:cubicBezTo>
                  <a:pt x="250" y="67"/>
                  <a:pt x="204" y="132"/>
                  <a:pt x="249" y="87"/>
                </a:cubicBezTo>
                <a:cubicBezTo>
                  <a:pt x="272" y="64"/>
                  <a:pt x="285" y="42"/>
                  <a:pt x="313" y="23"/>
                </a:cubicBezTo>
                <a:cubicBezTo>
                  <a:pt x="328" y="0"/>
                  <a:pt x="319" y="2"/>
                  <a:pt x="334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19520" y="3429000"/>
            <a:ext cx="35528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é-condition direc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3300"/>
                </a:solidFill>
                <a:latin typeface="Times New Roman"/>
              </a:rPr>
              <a:t>-ngau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oit suivre direc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 radical nominal au cas d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terminaison "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u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1028520" y="4305240"/>
            <a:ext cx="304920" cy="1752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87400" y="4716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/>
          <p:nvPr/>
        </p:nvCxnSpPr>
        <p:spPr>
          <a:xfrm rot="5400000">
            <a:off x="2628000" y="5011560"/>
            <a:ext cx="2160" cy="57060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731840" y="141120"/>
            <a:ext cx="41022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Étendue phrastique d’un mo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49600" y="2133720"/>
            <a:ext cx="16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ot inuktit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2520" y="3946680"/>
            <a:ext cx="8518320" cy="2899080"/>
            <a:chOff x="452520" y="3946680"/>
            <a:chExt cx="8518320" cy="2899080"/>
          </a:xfrm>
        </p:grpSpPr>
        <p:sp>
          <p:nvSpPr>
            <p:cNvPr id="157" name=""/>
            <p:cNvSpPr/>
            <p:nvPr/>
          </p:nvSpPr>
          <p:spPr>
            <a:xfrm>
              <a:off x="3272040" y="3946680"/>
              <a:ext cx="24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e phrase complex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452520" y="5653080"/>
              <a:ext cx="8518320" cy="1192680"/>
              <a:chOff x="452520" y="5653080"/>
              <a:chExt cx="8518320" cy="1192680"/>
            </a:xfrm>
          </p:grpSpPr>
          <p:sp>
            <p:nvSpPr>
              <p:cNvPr id="159" name=""/>
              <p:cNvSpPr/>
              <p:nvPr/>
            </p:nvSpPr>
            <p:spPr>
              <a:xfrm>
                <a:off x="452520" y="5653080"/>
                <a:ext cx="3760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cc33"/>
                    </a:solidFill>
                    <a:latin typeface="Times New Roman"/>
                  </a:rPr>
                  <a:t>umia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liurumanasuginngip</a:t>
                </a:r>
                <a:r>
                  <a:rPr b="0" lang="en-US" sz="2400" spc="-1" strike="noStrike">
                    <a:solidFill>
                      <a:srgbClr val="cc3300"/>
                    </a:solidFill>
                    <a:latin typeface="Times New Roman"/>
                  </a:rPr>
                  <a:t>par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12080" y="5654520"/>
                <a:ext cx="4658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3300"/>
                    </a:solidFill>
                    <a:latin typeface="Times New Roman"/>
                  </a:rPr>
                  <a:t>Je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ne pense pas qu’</a:t>
                </a:r>
                <a:r>
                  <a:rPr b="0" i="1" lang="en-US" sz="2400" spc="-1" strike="noStrike">
                    <a:solidFill>
                      <a:srgbClr val="cc3300"/>
                    </a:solidFill>
                    <a:latin typeface="Times New Roman"/>
                  </a:rPr>
                  <a:t>il</a:t>
                </a:r>
                <a:r>
                  <a:rPr b="0" i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 veut construi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cc33"/>
                    </a:solidFill>
                    <a:latin typeface="Times New Roman"/>
                  </a:rPr>
                  <a:t>un batea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1361880" y="1371600"/>
            <a:ext cx="65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Rac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[Suffixe]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erminaison grammati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54400" y="2530440"/>
            <a:ext cx="486000" cy="273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57200" y="2909880"/>
            <a:ext cx="4871160" cy="2177280"/>
            <a:chOff x="457200" y="2909880"/>
            <a:chExt cx="4871160" cy="2177280"/>
          </a:xfrm>
        </p:grpSpPr>
        <p:grpSp>
          <p:nvGrpSpPr>
            <p:cNvPr id="164" name=""/>
            <p:cNvGrpSpPr/>
            <p:nvPr/>
          </p:nvGrpSpPr>
          <p:grpSpPr>
            <a:xfrm>
              <a:off x="457200" y="4627440"/>
              <a:ext cx="4871160" cy="459720"/>
              <a:chOff x="457200" y="4627440"/>
              <a:chExt cx="4871160" cy="459720"/>
            </a:xfrm>
          </p:grpSpPr>
          <p:sp>
            <p:nvSpPr>
              <p:cNvPr id="165" name=""/>
              <p:cNvSpPr/>
              <p:nvPr/>
            </p:nvSpPr>
            <p:spPr>
              <a:xfrm>
                <a:off x="457200" y="4627440"/>
                <a:ext cx="94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cc33"/>
                    </a:solidFill>
                    <a:latin typeface="Times New Roman"/>
                  </a:rPr>
                  <a:t>umia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317120" y="4627440"/>
                <a:ext cx="101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cc33"/>
                    </a:solidFill>
                    <a:latin typeface="Times New Roman"/>
                  </a:rPr>
                  <a:t>batea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948840" y="2909880"/>
              <a:ext cx="89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 m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54680" y="3430440"/>
            <a:ext cx="6525360" cy="2148840"/>
            <a:chOff x="454680" y="3430440"/>
            <a:chExt cx="6525360" cy="2148840"/>
          </a:xfrm>
        </p:grpSpPr>
        <p:grpSp>
          <p:nvGrpSpPr>
            <p:cNvPr id="169" name=""/>
            <p:cNvGrpSpPr/>
            <p:nvPr/>
          </p:nvGrpSpPr>
          <p:grpSpPr>
            <a:xfrm>
              <a:off x="454680" y="5119560"/>
              <a:ext cx="6525360" cy="459720"/>
              <a:chOff x="454680" y="5119560"/>
              <a:chExt cx="6525360" cy="459720"/>
            </a:xfrm>
          </p:grpSpPr>
          <p:sp>
            <p:nvSpPr>
              <p:cNvPr id="170" name=""/>
              <p:cNvSpPr/>
              <p:nvPr/>
            </p:nvSpPr>
            <p:spPr>
              <a:xfrm>
                <a:off x="454680" y="5119560"/>
                <a:ext cx="203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cc33"/>
                    </a:solidFill>
                    <a:latin typeface="Times New Roman"/>
                  </a:rPr>
                  <a:t>umia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</a:rPr>
                  <a:t>raaping</a:t>
                </a:r>
                <a:r>
                  <a:rPr b="0" lang="en-US" sz="2400" spc="-1" strike="noStrike">
                    <a:solidFill>
                      <a:srgbClr val="cc3300"/>
                    </a:solidFill>
                    <a:latin typeface="Times New Roman"/>
                  </a:rPr>
                  <a:t>m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315320" y="5119560"/>
                <a:ext cx="266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3300"/>
                    </a:solidFill>
                    <a:latin typeface="Times New Roman"/>
                  </a:rPr>
                  <a:t>dans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33cc33"/>
                    </a:solidFill>
                    <a:latin typeface="Times New Roman"/>
                  </a:rPr>
                  <a:t>un </a:t>
                </a:r>
                <a:r>
                  <a:rPr b="0" i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petit</a:t>
                </a:r>
                <a:r>
                  <a:rPr b="0" i="1" lang="en-US" sz="2400" spc="-1" strike="noStrike">
                    <a:solidFill>
                      <a:srgbClr val="33cc33"/>
                    </a:solidFill>
                    <a:latin typeface="Times New Roman"/>
                  </a:rPr>
                  <a:t> batea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3658320" y="3430440"/>
              <a:ext cx="154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 syntag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457200" y="462744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744800" y="150840"/>
            <a:ext cx="41338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orpho-phonologie inuktitu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93560" y="2060640"/>
            <a:ext cx="65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Rac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[Suffixe]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erminaison grammati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573800" y="3322800"/>
            <a:ext cx="4195080" cy="1145520"/>
            <a:chOff x="4573800" y="3322800"/>
            <a:chExt cx="4195080" cy="1145520"/>
          </a:xfrm>
        </p:grpSpPr>
        <p:sp>
          <p:nvSpPr>
            <p:cNvPr id="177" name=""/>
            <p:cNvSpPr/>
            <p:nvPr/>
          </p:nvSpPr>
          <p:spPr>
            <a:xfrm>
              <a:off x="4573800" y="4008600"/>
              <a:ext cx="414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umia</a:t>
              </a:r>
              <a:r>
                <a:rPr b="0" lang="en-US" sz="2400" spc="-1" strike="noStrike" u="sng">
                  <a:solidFill>
                    <a:srgbClr val="33cc33"/>
                  </a:solidFill>
                  <a:uFillTx/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jua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liu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t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4160" y="3322800"/>
              <a:ext cx="419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umia</a:t>
              </a:r>
              <a:r>
                <a:rPr b="0" lang="en-US" sz="2400" spc="-1" strike="noStrike" u="sng">
                  <a:solidFill>
                    <a:srgbClr val="33cc33"/>
                  </a:solidFill>
                  <a:uFillTx/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jua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liu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t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234040" y="3678480"/>
              <a:ext cx="1776240" cy="496440"/>
              <a:chOff x="5234040" y="3678480"/>
              <a:chExt cx="1776240" cy="496440"/>
            </a:xfrm>
          </p:grpSpPr>
          <p:sp>
            <p:nvSpPr>
              <p:cNvPr id="180" name=""/>
              <p:cNvSpPr/>
              <p:nvPr/>
            </p:nvSpPr>
            <p:spPr>
              <a:xfrm flipV="1">
                <a:off x="5365800" y="3779280"/>
                <a:ext cx="622080" cy="214200"/>
              </a:xfrm>
              <a:custGeom>
                <a:avLst/>
                <a:gdLst/>
                <a:ahLst/>
                <a:rect l="l" t="t" r="r" b="b"/>
                <a:pathLst>
                  <a:path w="392" h="135">
                    <a:moveTo>
                      <a:pt x="392" y="128"/>
                    </a:moveTo>
                    <a:cubicBezTo>
                      <a:pt x="363" y="52"/>
                      <a:pt x="258" y="18"/>
                      <a:pt x="185" y="0"/>
                    </a:cubicBezTo>
                    <a:cubicBezTo>
                      <a:pt x="153" y="4"/>
                      <a:pt x="116" y="5"/>
                      <a:pt x="86" y="22"/>
                    </a:cubicBezTo>
                    <a:cubicBezTo>
                      <a:pt x="71" y="30"/>
                      <a:pt x="43" y="50"/>
                      <a:pt x="43" y="50"/>
                    </a:cubicBezTo>
                    <a:cubicBezTo>
                      <a:pt x="26" y="76"/>
                      <a:pt x="0" y="101"/>
                      <a:pt x="0" y="13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5234040" y="3735000"/>
                <a:ext cx="144360" cy="43956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62" y="277"/>
                    </a:moveTo>
                    <a:cubicBezTo>
                      <a:pt x="0" y="236"/>
                      <a:pt x="44" y="145"/>
                      <a:pt x="62" y="85"/>
                    </a:cubicBezTo>
                    <a:cubicBezTo>
                      <a:pt x="65" y="75"/>
                      <a:pt x="78" y="37"/>
                      <a:pt x="83" y="21"/>
                    </a:cubicBezTo>
                    <a:cubicBezTo>
                      <a:pt x="85" y="14"/>
                      <a:pt x="91" y="0"/>
                      <a:pt x="91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6387840" y="3703680"/>
                <a:ext cx="622440" cy="214560"/>
              </a:xfrm>
              <a:custGeom>
                <a:avLst/>
                <a:gdLst/>
                <a:ahLst/>
                <a:rect l="l" t="t" r="r" b="b"/>
                <a:pathLst>
                  <a:path w="392" h="135">
                    <a:moveTo>
                      <a:pt x="392" y="128"/>
                    </a:moveTo>
                    <a:cubicBezTo>
                      <a:pt x="363" y="52"/>
                      <a:pt x="258" y="18"/>
                      <a:pt x="185" y="0"/>
                    </a:cubicBezTo>
                    <a:cubicBezTo>
                      <a:pt x="153" y="4"/>
                      <a:pt x="116" y="5"/>
                      <a:pt x="86" y="22"/>
                    </a:cubicBezTo>
                    <a:cubicBezTo>
                      <a:pt x="71" y="30"/>
                      <a:pt x="43" y="50"/>
                      <a:pt x="43" y="50"/>
                    </a:cubicBezTo>
                    <a:cubicBezTo>
                      <a:pt x="26" y="76"/>
                      <a:pt x="0" y="101"/>
                      <a:pt x="0" y="13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6186240" y="3678480"/>
                <a:ext cx="146160" cy="487440"/>
              </a:xfrm>
              <a:custGeom>
                <a:avLst/>
                <a:gdLst/>
                <a:ahLst/>
                <a:rect l="l" t="t" r="r" b="b"/>
                <a:pathLst>
                  <a:path w="92" h="307">
                    <a:moveTo>
                      <a:pt x="92" y="307"/>
                    </a:moveTo>
                    <a:cubicBezTo>
                      <a:pt x="59" y="266"/>
                      <a:pt x="14" y="224"/>
                      <a:pt x="24" y="164"/>
                    </a:cubicBezTo>
                    <a:cubicBezTo>
                      <a:pt x="3" y="149"/>
                      <a:pt x="0" y="101"/>
                      <a:pt x="3" y="85"/>
                    </a:cubicBezTo>
                    <a:cubicBezTo>
                      <a:pt x="4" y="78"/>
                      <a:pt x="67" y="0"/>
                      <a:pt x="6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230400" y="3322800"/>
            <a:ext cx="43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9900ff"/>
                </a:solidFill>
                <a:uFillTx/>
                <a:latin typeface="Times New Roman"/>
              </a:rPr>
              <a:t>les morphèmes à agglutiner sont:</a:t>
            </a:r>
            <a:r>
              <a:rPr b="0" i="1" lang="en-US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8840" y="4008600"/>
            <a:ext cx="38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cc"/>
                </a:solidFill>
                <a:uFillTx/>
                <a:latin typeface="Times New Roman"/>
              </a:rPr>
              <a:t>mais on dit et prononce ce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67680" y="474516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umiar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ualiuqti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4394160"/>
            <a:ext cx="228600" cy="503280"/>
          </a:xfrm>
          <a:custGeom>
            <a:avLst/>
            <a:gdLst>
              <a:gd name="textAreaLeft" fmla="*/ 30600 w 228600"/>
              <a:gd name="textAreaRight" fmla="*/ 198000 w 2286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81120" y="150840"/>
            <a:ext cx="543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Comp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rtements morpho-phonologiqu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03320" y="1197000"/>
            <a:ext cx="5562720" cy="54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99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00"/>
                </a:solidFill>
                <a:latin typeface="Lucida Sans Unicode"/>
              </a:rPr>
              <a:t>neutre (aucun change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33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33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3300"/>
                </a:solidFill>
                <a:latin typeface="Lucida Sans Unicode"/>
              </a:rPr>
              <a:t>suppression de la consonne précé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33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3300"/>
                </a:solidFill>
                <a:latin typeface="Lucida Sans Unicode"/>
              </a:rPr>
              <a:t>sonorisation de la consonne précé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33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3300"/>
                </a:solidFill>
                <a:latin typeface="Lucida Sans Unicode"/>
              </a:rPr>
              <a:t>nasalisation de la consonne précé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33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3300"/>
                </a:solidFill>
                <a:latin typeface="Lucida Sans Unicode"/>
              </a:rPr>
              <a:t>assimilation de la consonne précé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Lucida Sans Unicode"/>
              </a:rPr>
              <a:t>inser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33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Lucida Sans Unicode"/>
              </a:rPr>
              <a:t>alternance consonna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Lucida Sans Unicode"/>
              </a:rPr>
              <a:t>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Lucida Sans Unicode"/>
              </a:rPr>
              <a:t>auto-décap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36160" y="1521000"/>
            <a:ext cx="148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ilirivv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f02e00"/>
                </a:solidFill>
                <a:latin typeface="Times New Roman"/>
              </a:rPr>
              <a:t>tigu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ar le départ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41920" y="2079720"/>
            <a:ext cx="139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ilirivv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f02e00"/>
                </a:solidFill>
                <a:latin typeface="Times New Roman"/>
              </a:rPr>
              <a:t>s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votre départ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36880" y="3171960"/>
            <a:ext cx="14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ilirivv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g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nu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à des départeme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40120" y="2624040"/>
            <a:ext cx="196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ilirivv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i="1" lang="en-US" sz="1800" spc="-1" strike="noStrike">
                <a:solidFill>
                  <a:srgbClr val="f02e00"/>
                </a:solidFill>
                <a:latin typeface="Times New Roman"/>
              </a:rPr>
              <a:t>jua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dans un grand départ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43360" y="3722760"/>
            <a:ext cx="150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ilirivv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m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avec le départ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42640" y="483408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usaq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p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lla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qaujut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vous avez probablement enten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40840" y="5923080"/>
            <a:ext cx="76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mia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batea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38680" y="5367240"/>
            <a:ext cx="185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umaju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r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sung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iq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chas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65240" y="2155680"/>
            <a:ext cx="1331640" cy="2298960"/>
            <a:chOff x="165240" y="2155680"/>
            <a:chExt cx="1331640" cy="2298960"/>
          </a:xfrm>
        </p:grpSpPr>
        <p:sp>
          <p:nvSpPr>
            <p:cNvPr id="199" name=""/>
            <p:cNvSpPr/>
            <p:nvPr/>
          </p:nvSpPr>
          <p:spPr>
            <a:xfrm>
              <a:off x="478080" y="2531880"/>
              <a:ext cx="706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ff"/>
                  </a:solidFill>
                  <a:latin typeface="Times New Roman"/>
                </a:rPr>
                <a:t>i u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ff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ff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5240" y="2155680"/>
              <a:ext cx="13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ntex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496880" y="1652760"/>
            <a:ext cx="0" cy="460836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41920" y="4316400"/>
            <a:ext cx="139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ilir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i="1" lang="en-US" sz="1800" spc="-1" strike="noStrike">
                <a:solidFill>
                  <a:srgbClr val="f02e00"/>
                </a:solidFill>
                <a:latin typeface="Times New Roman"/>
              </a:rPr>
              <a:t>s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votre départ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71880" y="150840"/>
            <a:ext cx="397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Base de données linguistiq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63640" y="2781360"/>
            <a:ext cx="5846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bles Microsoft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lexicalisés; noms d’endroits; non décomposables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monstra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i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isons nom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isons verb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isons démonstr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i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4240" y="1484280"/>
            <a:ext cx="82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formes morphémiques et comportements morpho-phonologiques contextue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sens </a:t>
            </a:r>
            <a:r>
              <a:rPr b="0" i="1" lang="en-US" sz="2000" spc="-1" strike="noStrike">
                <a:solidFill>
                  <a:srgbClr val="33cc33"/>
                </a:solidFill>
                <a:latin typeface="Times New Roman"/>
              </a:rPr>
              <a:t>(français, anglais [, inuktitut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informations syntaxiques et séman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3120" y="141120"/>
            <a:ext cx="3849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aille de la base de donné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79560" y="5576760"/>
          <a:ext cx="7315200" cy="507960"/>
        </p:xfrm>
        <a:graphic>
          <a:graphicData uri="http://schemas.openxmlformats.org/drawingml/2006/table">
            <a:tbl>
              <a:tblPr/>
              <a:tblGrid>
                <a:gridCol w="5715000"/>
                <a:gridCol w="16002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ormes morphémiq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2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fff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22960" y="6108840"/>
            <a:ext cx="38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* tailles actuelles – sujettes à expa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979560" y="1557360"/>
          <a:ext cx="7315200" cy="3473280"/>
        </p:xfrm>
        <a:graphic>
          <a:graphicData uri="http://schemas.openxmlformats.org/drawingml/2006/table">
            <a:tbl>
              <a:tblPr/>
              <a:tblGrid>
                <a:gridCol w="5715000"/>
                <a:gridCol w="1600200"/>
              </a:tblGrid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aill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o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émonstra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uffix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erminaisons nomi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erminaisons verb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erminaisons démonstra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ntrai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591000" y="242100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honol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35280" y="33606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ortho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35400" y="291636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29760" y="4221000"/>
            <a:ext cx="79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78760" y="4221000"/>
            <a:ext cx="65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78040" y="4221000"/>
            <a:ext cx="145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k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&amp;&amp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k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ki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31200" y="57070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o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79480" y="57070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mai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78760" y="570708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arrivant, il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23200" y="1341360"/>
            <a:ext cx="484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fférences phonologiques dialec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ns les groupes de cons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160960" y="150840"/>
            <a:ext cx="3672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ifférences phonologiqu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228564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uqa</a:t>
            </a: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usiup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 ila</a:t>
            </a: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nginnik nanisijj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t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2640" y="5029200"/>
            <a:ext cx="50306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trouver </a:t>
            </a:r>
            <a:r>
              <a:rPr b="1" i="1" lang="en-US" sz="1600" spc="-1" strike="noStrike">
                <a:solidFill>
                  <a:srgbClr val="0099ff"/>
                </a:solidFill>
                <a:latin typeface="Arial"/>
              </a:rPr>
              <a:t>(ce qu’ on chercha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outil; instr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6120" y="5029200"/>
            <a:ext cx="16765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anisi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jj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2640" y="4486320"/>
            <a:ext cx="50306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6120" y="4486320"/>
            <a:ext cx="16765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nginnik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2640" y="3968640"/>
            <a:ext cx="5030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partie; por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6120" y="3968640"/>
            <a:ext cx="16765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l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2640" y="3451320"/>
            <a:ext cx="5030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’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6120" y="3451320"/>
            <a:ext cx="16765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2933640"/>
            <a:ext cx="5030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m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6120" y="2933640"/>
            <a:ext cx="16765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qausiq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6120" y="2933640"/>
            <a:ext cx="67071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6120" y="3451320"/>
            <a:ext cx="670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6120" y="3968640"/>
            <a:ext cx="6707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6120" y="4486320"/>
            <a:ext cx="670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6120" y="6059520"/>
            <a:ext cx="67071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6120" y="2933640"/>
            <a:ext cx="0" cy="3125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2640" y="2933640"/>
            <a:ext cx="0" cy="312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153280" y="2933640"/>
            <a:ext cx="0" cy="3125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85600" y="601992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composition de mot inuktit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112920" y="1295280"/>
            <a:ext cx="3211560" cy="925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47920" y="5029200"/>
            <a:ext cx="6707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41240" y="5157720"/>
            <a:ext cx="19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02e00"/>
                </a:solidFill>
                <a:latin typeface="Times New Roman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  =  a</a:t>
            </a:r>
            <a:r>
              <a:rPr b="0" lang="en-US" sz="2400" spc="-1" strike="noStrike">
                <a:solidFill>
                  <a:srgbClr val="f02e00"/>
                </a:solidFill>
                <a:latin typeface="Times New Roman"/>
              </a:rPr>
              <a:t>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703760" y="1989000"/>
            <a:ext cx="3684600" cy="3076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43040" y="1989000"/>
            <a:ext cx="3720960" cy="3059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701960" y="5157720"/>
            <a:ext cx="18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2e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02e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   =  </a:t>
            </a:r>
            <a:r>
              <a:rPr b="0" lang="en-US" sz="2400" spc="-1" strike="noStrike">
                <a:solidFill>
                  <a:srgbClr val="f02e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02e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30640" y="150840"/>
            <a:ext cx="48974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Exemple de différences dialecta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4000" y="1173240"/>
            <a:ext cx="4829040" cy="5351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508720" y="3154320"/>
            <a:ext cx="3362400" cy="3381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259840" y="3057480"/>
            <a:ext cx="325440" cy="843120"/>
          </a:xfrm>
          <a:custGeom>
            <a:avLst/>
            <a:gdLst/>
            <a:ahLst/>
            <a:rect l="l" t="t" r="r" b="b"/>
            <a:pathLst>
              <a:path w="205" h="531">
                <a:moveTo>
                  <a:pt x="205" y="0"/>
                </a:moveTo>
                <a:cubicBezTo>
                  <a:pt x="195" y="136"/>
                  <a:pt x="177" y="274"/>
                  <a:pt x="110" y="395"/>
                </a:cubicBezTo>
                <a:cubicBezTo>
                  <a:pt x="95" y="422"/>
                  <a:pt x="64" y="467"/>
                  <a:pt x="41" y="490"/>
                </a:cubicBezTo>
                <a:cubicBezTo>
                  <a:pt x="0" y="531"/>
                  <a:pt x="25" y="485"/>
                  <a:pt x="7" y="5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08000" y="5229360"/>
            <a:ext cx="2016000" cy="871560"/>
            <a:chOff x="108000" y="5229360"/>
            <a:chExt cx="2016000" cy="871560"/>
          </a:xfrm>
        </p:grpSpPr>
        <p:sp>
          <p:nvSpPr>
            <p:cNvPr id="230" name=""/>
            <p:cNvSpPr/>
            <p:nvPr/>
          </p:nvSpPr>
          <p:spPr>
            <a:xfrm>
              <a:off x="539640" y="5526000"/>
              <a:ext cx="1584360" cy="574920"/>
            </a:xfrm>
            <a:custGeom>
              <a:avLst/>
              <a:gdLst/>
              <a:ahLst/>
              <a:rect l="l" t="t" r="r" b="b"/>
              <a:pathLst>
                <a:path w="912" h="370">
                  <a:moveTo>
                    <a:pt x="0" y="0"/>
                  </a:moveTo>
                  <a:cubicBezTo>
                    <a:pt x="141" y="9"/>
                    <a:pt x="286" y="18"/>
                    <a:pt x="422" y="60"/>
                  </a:cubicBezTo>
                  <a:cubicBezTo>
                    <a:pt x="430" y="66"/>
                    <a:pt x="441" y="69"/>
                    <a:pt x="447" y="77"/>
                  </a:cubicBezTo>
                  <a:cubicBezTo>
                    <a:pt x="477" y="115"/>
                    <a:pt x="424" y="153"/>
                    <a:pt x="404" y="180"/>
                  </a:cubicBezTo>
                  <a:cubicBezTo>
                    <a:pt x="417" y="232"/>
                    <a:pt x="443" y="246"/>
                    <a:pt x="490" y="266"/>
                  </a:cubicBezTo>
                  <a:cubicBezTo>
                    <a:pt x="589" y="309"/>
                    <a:pt x="685" y="331"/>
                    <a:pt x="791" y="352"/>
                  </a:cubicBezTo>
                  <a:cubicBezTo>
                    <a:pt x="832" y="360"/>
                    <a:pt x="870" y="370"/>
                    <a:pt x="912" y="3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000" y="5229360"/>
              <a:ext cx="2016000" cy="4597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 sélectionn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79280" y="1039680"/>
            <a:ext cx="1441440" cy="776520"/>
            <a:chOff x="179280" y="1039680"/>
            <a:chExt cx="1441440" cy="776520"/>
          </a:xfrm>
        </p:grpSpPr>
        <p:sp>
          <p:nvSpPr>
            <p:cNvPr id="233" name=""/>
            <p:cNvSpPr/>
            <p:nvPr/>
          </p:nvSpPr>
          <p:spPr>
            <a:xfrm>
              <a:off x="1098720" y="1095480"/>
              <a:ext cx="504720" cy="720720"/>
            </a:xfrm>
            <a:custGeom>
              <a:avLst/>
              <a:gdLst/>
              <a:ahLst/>
              <a:rect l="l" t="t" r="r" b="b"/>
              <a:pathLst>
                <a:path w="292" h="395">
                  <a:moveTo>
                    <a:pt x="292" y="395"/>
                  </a:moveTo>
                  <a:cubicBezTo>
                    <a:pt x="252" y="381"/>
                    <a:pt x="237" y="347"/>
                    <a:pt x="197" y="335"/>
                  </a:cubicBezTo>
                  <a:cubicBezTo>
                    <a:pt x="186" y="318"/>
                    <a:pt x="174" y="300"/>
                    <a:pt x="163" y="283"/>
                  </a:cubicBezTo>
                  <a:cubicBezTo>
                    <a:pt x="157" y="274"/>
                    <a:pt x="146" y="257"/>
                    <a:pt x="146" y="257"/>
                  </a:cubicBezTo>
                  <a:cubicBezTo>
                    <a:pt x="171" y="249"/>
                    <a:pt x="210" y="263"/>
                    <a:pt x="223" y="240"/>
                  </a:cubicBezTo>
                  <a:cubicBezTo>
                    <a:pt x="236" y="218"/>
                    <a:pt x="203" y="185"/>
                    <a:pt x="189" y="171"/>
                  </a:cubicBezTo>
                  <a:cubicBezTo>
                    <a:pt x="145" y="127"/>
                    <a:pt x="91" y="89"/>
                    <a:pt x="43" y="51"/>
                  </a:cubicBezTo>
                  <a:cubicBezTo>
                    <a:pt x="24" y="36"/>
                    <a:pt x="16" y="1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9280" y="1039680"/>
              <a:ext cx="1441440" cy="4597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 cliqu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724360" y="988920"/>
            <a:ext cx="2953080" cy="2016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vous obtene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 description 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ança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 mot inuktitut de la pag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241960" y="150840"/>
            <a:ext cx="35258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pplication Dictionnaire</a:t>
            </a:r>
            <a:br>
              <a:rPr sz="2400"/>
            </a:b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(Françai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24000" y="1182600"/>
            <a:ext cx="4829040" cy="5351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548320" y="3081240"/>
            <a:ext cx="3332160" cy="34480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259840" y="3057480"/>
            <a:ext cx="325440" cy="843120"/>
          </a:xfrm>
          <a:custGeom>
            <a:avLst/>
            <a:gdLst/>
            <a:ahLst/>
            <a:rect l="l" t="t" r="r" b="b"/>
            <a:pathLst>
              <a:path w="205" h="531">
                <a:moveTo>
                  <a:pt x="205" y="0"/>
                </a:moveTo>
                <a:cubicBezTo>
                  <a:pt x="195" y="136"/>
                  <a:pt x="177" y="274"/>
                  <a:pt x="110" y="395"/>
                </a:cubicBezTo>
                <a:cubicBezTo>
                  <a:pt x="95" y="422"/>
                  <a:pt x="64" y="467"/>
                  <a:pt x="41" y="490"/>
                </a:cubicBezTo>
                <a:cubicBezTo>
                  <a:pt x="0" y="531"/>
                  <a:pt x="25" y="485"/>
                  <a:pt x="7" y="5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89320" y="151920"/>
            <a:ext cx="367164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pplication Dictionnaire</a:t>
            </a:r>
            <a:br>
              <a:rPr sz="2400"/>
            </a:b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(Anglai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08000" y="5229360"/>
            <a:ext cx="2016000" cy="871560"/>
            <a:chOff x="108000" y="5229360"/>
            <a:chExt cx="2016000" cy="871560"/>
          </a:xfrm>
        </p:grpSpPr>
        <p:sp>
          <p:nvSpPr>
            <p:cNvPr id="242" name=""/>
            <p:cNvSpPr/>
            <p:nvPr/>
          </p:nvSpPr>
          <p:spPr>
            <a:xfrm>
              <a:off x="539640" y="5526000"/>
              <a:ext cx="1584360" cy="574920"/>
            </a:xfrm>
            <a:custGeom>
              <a:avLst/>
              <a:gdLst/>
              <a:ahLst/>
              <a:rect l="l" t="t" r="r" b="b"/>
              <a:pathLst>
                <a:path w="912" h="370">
                  <a:moveTo>
                    <a:pt x="0" y="0"/>
                  </a:moveTo>
                  <a:cubicBezTo>
                    <a:pt x="141" y="9"/>
                    <a:pt x="286" y="18"/>
                    <a:pt x="422" y="60"/>
                  </a:cubicBezTo>
                  <a:cubicBezTo>
                    <a:pt x="430" y="66"/>
                    <a:pt x="441" y="69"/>
                    <a:pt x="447" y="77"/>
                  </a:cubicBezTo>
                  <a:cubicBezTo>
                    <a:pt x="477" y="115"/>
                    <a:pt x="424" y="153"/>
                    <a:pt x="404" y="180"/>
                  </a:cubicBezTo>
                  <a:cubicBezTo>
                    <a:pt x="417" y="232"/>
                    <a:pt x="443" y="246"/>
                    <a:pt x="490" y="266"/>
                  </a:cubicBezTo>
                  <a:cubicBezTo>
                    <a:pt x="589" y="309"/>
                    <a:pt x="685" y="331"/>
                    <a:pt x="791" y="352"/>
                  </a:cubicBezTo>
                  <a:cubicBezTo>
                    <a:pt x="832" y="360"/>
                    <a:pt x="870" y="370"/>
                    <a:pt x="912" y="3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8000" y="5229360"/>
              <a:ext cx="2016000" cy="4597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 sélectionn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79280" y="1039680"/>
            <a:ext cx="1441440" cy="776520"/>
            <a:chOff x="179280" y="1039680"/>
            <a:chExt cx="1441440" cy="776520"/>
          </a:xfrm>
        </p:grpSpPr>
        <p:sp>
          <p:nvSpPr>
            <p:cNvPr id="245" name=""/>
            <p:cNvSpPr/>
            <p:nvPr/>
          </p:nvSpPr>
          <p:spPr>
            <a:xfrm>
              <a:off x="1098720" y="1095480"/>
              <a:ext cx="504720" cy="720720"/>
            </a:xfrm>
            <a:custGeom>
              <a:avLst/>
              <a:gdLst/>
              <a:ahLst/>
              <a:rect l="l" t="t" r="r" b="b"/>
              <a:pathLst>
                <a:path w="292" h="395">
                  <a:moveTo>
                    <a:pt x="292" y="395"/>
                  </a:moveTo>
                  <a:cubicBezTo>
                    <a:pt x="252" y="381"/>
                    <a:pt x="237" y="347"/>
                    <a:pt x="197" y="335"/>
                  </a:cubicBezTo>
                  <a:cubicBezTo>
                    <a:pt x="186" y="318"/>
                    <a:pt x="174" y="300"/>
                    <a:pt x="163" y="283"/>
                  </a:cubicBezTo>
                  <a:cubicBezTo>
                    <a:pt x="157" y="274"/>
                    <a:pt x="146" y="257"/>
                    <a:pt x="146" y="257"/>
                  </a:cubicBezTo>
                  <a:cubicBezTo>
                    <a:pt x="171" y="249"/>
                    <a:pt x="210" y="263"/>
                    <a:pt x="223" y="240"/>
                  </a:cubicBezTo>
                  <a:cubicBezTo>
                    <a:pt x="236" y="218"/>
                    <a:pt x="203" y="185"/>
                    <a:pt x="189" y="171"/>
                  </a:cubicBezTo>
                  <a:cubicBezTo>
                    <a:pt x="145" y="127"/>
                    <a:pt x="91" y="89"/>
                    <a:pt x="43" y="51"/>
                  </a:cubicBezTo>
                  <a:cubicBezTo>
                    <a:pt x="24" y="36"/>
                    <a:pt x="16" y="1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9280" y="1039680"/>
              <a:ext cx="1441440" cy="4597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 cliqu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5724360" y="981000"/>
            <a:ext cx="2953080" cy="2016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vous obtene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 description 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gla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 mot inuktitut de la pag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4829040" cy="53517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692360" y="3332160"/>
            <a:ext cx="3400200" cy="31528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3924360" y="1090440"/>
            <a:ext cx="5038560" cy="539136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1763640" y="981000"/>
            <a:ext cx="1727280" cy="801720"/>
            <a:chOff x="1763640" y="981000"/>
            <a:chExt cx="1727280" cy="801720"/>
          </a:xfrm>
        </p:grpSpPr>
        <p:sp>
          <p:nvSpPr>
            <p:cNvPr id="252" name=""/>
            <p:cNvSpPr/>
            <p:nvPr/>
          </p:nvSpPr>
          <p:spPr>
            <a:xfrm>
              <a:off x="3027240" y="1155600"/>
              <a:ext cx="463680" cy="627120"/>
            </a:xfrm>
            <a:custGeom>
              <a:avLst/>
              <a:gdLst/>
              <a:ahLst/>
              <a:rect l="l" t="t" r="r" b="b"/>
              <a:pathLst>
                <a:path w="292" h="395">
                  <a:moveTo>
                    <a:pt x="292" y="395"/>
                  </a:moveTo>
                  <a:cubicBezTo>
                    <a:pt x="252" y="381"/>
                    <a:pt x="237" y="347"/>
                    <a:pt x="197" y="335"/>
                  </a:cubicBezTo>
                  <a:cubicBezTo>
                    <a:pt x="186" y="318"/>
                    <a:pt x="174" y="300"/>
                    <a:pt x="163" y="283"/>
                  </a:cubicBezTo>
                  <a:cubicBezTo>
                    <a:pt x="157" y="274"/>
                    <a:pt x="146" y="257"/>
                    <a:pt x="146" y="257"/>
                  </a:cubicBezTo>
                  <a:cubicBezTo>
                    <a:pt x="171" y="249"/>
                    <a:pt x="210" y="263"/>
                    <a:pt x="223" y="240"/>
                  </a:cubicBezTo>
                  <a:cubicBezTo>
                    <a:pt x="236" y="218"/>
                    <a:pt x="203" y="185"/>
                    <a:pt x="189" y="171"/>
                  </a:cubicBezTo>
                  <a:cubicBezTo>
                    <a:pt x="145" y="127"/>
                    <a:pt x="91" y="89"/>
                    <a:pt x="43" y="51"/>
                  </a:cubicBezTo>
                  <a:cubicBezTo>
                    <a:pt x="24" y="36"/>
                    <a:pt x="16" y="1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63640" y="981000"/>
              <a:ext cx="1376280" cy="4597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 cliqu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059280" y="2349360"/>
            <a:ext cx="649080" cy="1168560"/>
          </a:xfrm>
          <a:custGeom>
            <a:avLst/>
            <a:gdLst/>
            <a:ahLst/>
            <a:rect l="l" t="t" r="r" b="b"/>
            <a:pathLst>
              <a:path w="272" h="559">
                <a:moveTo>
                  <a:pt x="0" y="0"/>
                </a:moveTo>
                <a:cubicBezTo>
                  <a:pt x="61" y="15"/>
                  <a:pt x="122" y="26"/>
                  <a:pt x="164" y="78"/>
                </a:cubicBezTo>
                <a:cubicBezTo>
                  <a:pt x="176" y="92"/>
                  <a:pt x="187" y="106"/>
                  <a:pt x="198" y="121"/>
                </a:cubicBezTo>
                <a:cubicBezTo>
                  <a:pt x="210" y="137"/>
                  <a:pt x="232" y="172"/>
                  <a:pt x="232" y="172"/>
                </a:cubicBezTo>
                <a:cubicBezTo>
                  <a:pt x="240" y="201"/>
                  <a:pt x="249" y="229"/>
                  <a:pt x="258" y="258"/>
                </a:cubicBezTo>
                <a:cubicBezTo>
                  <a:pt x="253" y="389"/>
                  <a:pt x="272" y="458"/>
                  <a:pt x="224" y="5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50920" y="4724280"/>
            <a:ext cx="1657080" cy="762840"/>
            <a:chOff x="250920" y="4724280"/>
            <a:chExt cx="1657080" cy="762840"/>
          </a:xfrm>
        </p:grpSpPr>
        <p:sp>
          <p:nvSpPr>
            <p:cNvPr id="256" name=""/>
            <p:cNvSpPr/>
            <p:nvPr/>
          </p:nvSpPr>
          <p:spPr>
            <a:xfrm>
              <a:off x="250920" y="5027400"/>
              <a:ext cx="1441440" cy="4597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 cliqu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00000" y="4724280"/>
              <a:ext cx="1008000" cy="299880"/>
            </a:xfrm>
            <a:custGeom>
              <a:avLst/>
              <a:gdLst/>
              <a:ahLst/>
              <a:rect l="l" t="t" r="r" b="b"/>
              <a:pathLst>
                <a:path w="635" h="189">
                  <a:moveTo>
                    <a:pt x="0" y="189"/>
                  </a:moveTo>
                  <a:cubicBezTo>
                    <a:pt x="32" y="158"/>
                    <a:pt x="76" y="134"/>
                    <a:pt x="117" y="121"/>
                  </a:cubicBezTo>
                  <a:cubicBezTo>
                    <a:pt x="155" y="80"/>
                    <a:pt x="171" y="95"/>
                    <a:pt x="224" y="78"/>
                  </a:cubicBezTo>
                  <a:cubicBezTo>
                    <a:pt x="257" y="100"/>
                    <a:pt x="339" y="99"/>
                    <a:pt x="376" y="112"/>
                  </a:cubicBezTo>
                  <a:cubicBezTo>
                    <a:pt x="420" y="108"/>
                    <a:pt x="489" y="110"/>
                    <a:pt x="535" y="86"/>
                  </a:cubicBezTo>
                  <a:cubicBezTo>
                    <a:pt x="561" y="72"/>
                    <a:pt x="573" y="53"/>
                    <a:pt x="601" y="43"/>
                  </a:cubicBezTo>
                  <a:cubicBezTo>
                    <a:pt x="623" y="10"/>
                    <a:pt x="612" y="24"/>
                    <a:pt x="6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6875640" y="2997360"/>
            <a:ext cx="2160360" cy="1584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vous obtenez la description du suff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8800" y="140760"/>
            <a:ext cx="3456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pplication Dictionnair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6560" y="1916280"/>
            <a:ext cx="2943360" cy="1368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. vous obtenez la liste des suffix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 la base de 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276720" y="1197000"/>
            <a:ext cx="5530680" cy="47642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1800" y="152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ajurnasiv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alliajualutuinnauquujiqattali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86000" y="5943600"/>
            <a:ext cx="196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Alphabet la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2492280"/>
            <a:ext cx="25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semble souvent que ça devient juste de plus en plus vraiment difficile à fair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851440" y="152280"/>
            <a:ext cx="2982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oteur de recherch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160" y="27432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sulta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83800" y="2743200"/>
            <a:ext cx="7265880" cy="210600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action.attavik.ca/home/langcom/iu_whatsnew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qausilinirmut kamisina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langcom/rights/iu_rol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qausilinirmut kamisina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sembly.nu.ca/old/inuktitut/new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qausilinirmut kamisina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u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uqausilirinirmut kamis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4000" y="15652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rc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97120" y="1523880"/>
            <a:ext cx="5105160" cy="5335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qausilirinirmut kamis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67280" y="2133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mmissaire aux lang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68640" y="5013360"/>
            <a:ext cx="315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qausilirijikkut kamisinang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qausilirinirmut kiggaqt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qausilirinirmut kiggaqtuq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qausilirinirmut kiggaqtui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25760" y="5486400"/>
            <a:ext cx="22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res appell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89200" y="163440"/>
            <a:ext cx="340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oteur de recherche (2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635040"/>
            <a:ext cx="807552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35400" y="152280"/>
            <a:ext cx="36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orrecteur d’orthograph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8040" y="2200320"/>
            <a:ext cx="4419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liana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Lucida Sans Unicode"/>
                <a:ea typeface="Lucida Sans Unicode"/>
              </a:rPr>
              <a:t>pi</a:t>
            </a: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gusuttiaqpun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Lucida Sans Unicode"/>
                <a:ea typeface="Lucida Sans Unicode"/>
              </a:rPr>
              <a:t>aliana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Lucida Sans Unicode"/>
                <a:ea typeface="Lucida Sans Unicode"/>
              </a:rPr>
              <a:t>i  </a:t>
            </a:r>
            <a:r>
              <a:rPr b="0" lang="fr-FR" sz="2000" spc="-1" strike="noStrike">
                <a:solidFill>
                  <a:srgbClr val="0000ff"/>
                </a:solidFill>
                <a:latin typeface="Lucida Sans Unicode"/>
                <a:ea typeface="Lucida Sans Unicode"/>
              </a:rPr>
              <a:t>gusuttiaqpun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Je suis très content qu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lia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Lucida Sans Unicode"/>
                <a:ea typeface="Lucida Sans Unicode"/>
              </a:rPr>
              <a:t>la </a:t>
            </a: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giallalauqtu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Lucida Sans Unicode"/>
                <a:ea typeface="Lucida Sans Unicode"/>
              </a:rPr>
              <a:t>alia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Lucida Sans Unicode"/>
                <a:ea typeface="Lucida Sans Unicode"/>
              </a:rPr>
              <a:t>na</a:t>
            </a:r>
            <a:r>
              <a:rPr b="0" lang="fr-FR" sz="2000" spc="-1" strike="noStrike">
                <a:solidFill>
                  <a:srgbClr val="0000ff"/>
                </a:solidFill>
                <a:latin typeface="Lucida Sans Unicode"/>
                <a:ea typeface="Lucida Sans Unicode"/>
              </a:rPr>
              <a:t>igiallalauqtu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’était très excitant de savoir qu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liana</a:t>
            </a:r>
            <a:r>
              <a:rPr b="0" lang="en-CA" sz="2000" spc="-1" strike="noStrike" u="sng">
                <a:solidFill>
                  <a:srgbClr val="000000"/>
                </a:solidFill>
                <a:uFillTx/>
                <a:latin typeface="Lucida Sans Unicode"/>
                <a:ea typeface="Lucida Sans Unicode"/>
              </a:rPr>
              <a:t>u</a:t>
            </a:r>
            <a:r>
              <a:rPr b="0" lang="en-CA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gusuttummariulauqsutig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ff"/>
                </a:solidFill>
                <a:latin typeface="Lucida Sans Unicode"/>
                <a:ea typeface="Lucida Sans Unicode"/>
              </a:rPr>
              <a:t>aliana</a:t>
            </a:r>
            <a:r>
              <a:rPr b="0" lang="en-CA" sz="2000" spc="-1" strike="noStrike" u="sng">
                <a:solidFill>
                  <a:srgbClr val="0000ff"/>
                </a:solidFill>
                <a:uFillTx/>
                <a:latin typeface="Lucida Sans Unicode"/>
                <a:ea typeface="Lucida Sans Unicode"/>
              </a:rPr>
              <a:t>i </a:t>
            </a:r>
            <a:r>
              <a:rPr b="0" lang="en-CA" sz="2000" spc="-1" strike="noStrike">
                <a:solidFill>
                  <a:srgbClr val="0000ff"/>
                </a:solidFill>
                <a:latin typeface="Lucida Sans Unicode"/>
                <a:ea typeface="Lucida Sans Unicode"/>
              </a:rPr>
              <a:t>gusuttummariulauqsutig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t ils ont eu du plaisir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26360" y="116352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rreurs de frap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08640" y="2200320"/>
            <a:ext cx="3262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Pigiarniq"/>
                <a:ea typeface="Lucida Sans Unicode"/>
              </a:rPr>
              <a:t>ᐊᓕᐊᓇ</a:t>
            </a:r>
            <a:r>
              <a:rPr b="0" lang="eu-ES" sz="2000" spc="-1" strike="noStrike" u="sng">
                <a:solidFill>
                  <a:srgbClr val="000000"/>
                </a:solidFill>
                <a:uFillTx/>
                <a:latin typeface="Pigiarniq"/>
                <a:ea typeface="Lucida Sans Unicode"/>
              </a:rPr>
              <a:t>ᐱ</a:t>
            </a:r>
            <a:r>
              <a:rPr b="0" lang="eu-ES" sz="2000" spc="-1" strike="noStrike">
                <a:solidFill>
                  <a:srgbClr val="000000"/>
                </a:solidFill>
                <a:latin typeface="Pigiarniq"/>
                <a:ea typeface="Lucida Sans Unicode"/>
              </a:rPr>
              <a:t>ᒍᓱᑦᑎᐊᖅᐳ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ff"/>
                </a:solidFill>
                <a:latin typeface="Times New Roman"/>
              </a:rPr>
              <a:t>ᐊᓕᐊᓇ</a:t>
            </a:r>
            <a:r>
              <a:rPr b="0" lang="eu-ES" sz="2000" spc="-1" strike="noStrike" u="sng">
                <a:solidFill>
                  <a:srgbClr val="0000ff"/>
                </a:solidFill>
                <a:uFillTx/>
                <a:latin typeface="Times New Roman"/>
              </a:rPr>
              <a:t>ᐃ</a:t>
            </a:r>
            <a:r>
              <a:rPr b="0" lang="eu-ES" sz="2000" spc="-1" strike="noStrike">
                <a:solidFill>
                  <a:srgbClr val="0000ff"/>
                </a:solidFill>
                <a:latin typeface="Times New Roman"/>
              </a:rPr>
              <a:t>ᒍᓱᑦᑎᐊᖅᐳ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ᐊᓕᐊ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Lucida Sans Unicode"/>
                <a:ea typeface="Lucida Sans Unicode"/>
              </a:rPr>
              <a:t>ᓚ</a:t>
            </a: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ᐃᒋᐊᓪᓚᓚᐅᖅᑐ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ᐊᓕᐊ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Times New Roman"/>
              </a:rPr>
              <a:t>ᓇ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ᐃᒋᐊᓪᓚᓚᐅᖅᑐ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ᐊᓕᐊᓇ</a:t>
            </a:r>
            <a:r>
              <a:rPr b="0" lang="en-CA" sz="2000" spc="-1" strike="noStrike" u="sng">
                <a:solidFill>
                  <a:srgbClr val="000000"/>
                </a:solidFill>
                <a:uFillTx/>
                <a:latin typeface="Lucida Sans Unicode"/>
                <a:ea typeface="Lucida Sans Unicode"/>
              </a:rPr>
              <a:t>ᐅ</a:t>
            </a:r>
            <a:r>
              <a:rPr b="0" lang="en-CA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ᒍᓱᑦᑐᒻᒪᕆᐅᓚᐅᖅᓱᑎᒡ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ff"/>
                </a:solidFill>
                <a:latin typeface="Times New Roman"/>
              </a:rPr>
              <a:t>ᐊᓕᐊᓇ</a:t>
            </a:r>
            <a:r>
              <a:rPr b="0" lang="en-CA" sz="2000" spc="-1" strike="noStrike" u="sng">
                <a:solidFill>
                  <a:srgbClr val="0000ff"/>
                </a:solidFill>
                <a:uFillTx/>
                <a:latin typeface="Times New Roman"/>
              </a:rPr>
              <a:t>ᐃ</a:t>
            </a:r>
            <a:r>
              <a:rPr b="0" lang="en-CA" sz="2000" spc="-1" strike="noStrike">
                <a:solidFill>
                  <a:srgbClr val="0000ff"/>
                </a:solidFill>
                <a:latin typeface="Times New Roman"/>
              </a:rPr>
              <a:t>ᒍᓱᑦᑐᒻᒪᕆᐅᓚᐅᖅᓱᑎᒡ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29080" y="152280"/>
            <a:ext cx="2819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008000"/>
                </a:solidFill>
                <a:latin typeface="Times New Roman"/>
              </a:rPr>
              <a:t>Erreurs de frapp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587760" cy="4267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60360" y="1746360"/>
            <a:ext cx="304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ian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usuttiaqpu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aliana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Times New Roman"/>
              </a:rPr>
              <a:t>i  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gusuttiaqpunga </a:t>
            </a: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ᐊᓕᐊᓇ</a:t>
            </a:r>
            <a:r>
              <a:rPr b="0" lang="eu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ᐱ</a:t>
            </a: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ᒍᓱᑦᑎᐊᖅᐳ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3366ff"/>
                </a:solidFill>
                <a:latin typeface="Times New Roman"/>
              </a:rPr>
              <a:t>ᐊᓕᐊᓇ</a:t>
            </a:r>
            <a:r>
              <a:rPr b="0" lang="eu-ES" sz="2400" spc="-1" strike="noStrike" u="sng">
                <a:solidFill>
                  <a:srgbClr val="3366ff"/>
                </a:solidFill>
                <a:uFillTx/>
                <a:latin typeface="Times New Roman"/>
              </a:rPr>
              <a:t>ᐃ</a:t>
            </a:r>
            <a:r>
              <a:rPr b="0" lang="eu-ES" sz="2400" spc="-1" strike="noStrike">
                <a:solidFill>
                  <a:srgbClr val="3366ff"/>
                </a:solidFill>
                <a:latin typeface="Times New Roman"/>
              </a:rPr>
              <a:t>ᒍᓱᑦᑎᐊᖅᐳ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0360" y="3622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i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giallalauqtu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alia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igiallalauqtu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ᐊᓕᐊ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ᐃᒋᐊᓪᓚᓚᐅᖅᑐ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ᐊᓕᐊ</a:t>
            </a:r>
            <a:r>
              <a:rPr b="0" lang="fr-FR" sz="2400" spc="-1" strike="noStrike" u="sng">
                <a:solidFill>
                  <a:srgbClr val="3366ff"/>
                </a:solidFill>
                <a:uFillTx/>
                <a:latin typeface="Times New Roman"/>
              </a:rPr>
              <a:t>ᓇ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ᐃᒋᐊᓪᓚᓚᐅᖅᑐ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29400" y="4572000"/>
            <a:ext cx="685800" cy="5335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2" idx="3"/>
            <a:endCxn id="283" idx="2"/>
          </p:cNvCxnSpPr>
          <p:nvPr/>
        </p:nvCxnSpPr>
        <p:spPr>
          <a:xfrm>
            <a:off x="3331800" y="4398840"/>
            <a:ext cx="3297960" cy="440640"/>
          </a:xfrm>
          <a:prstGeom prst="curvedConnector5">
            <a:avLst>
              <a:gd name="adj1" fmla="val 49967"/>
              <a:gd name="adj2" fmla="val 49959"/>
              <a:gd name="adj3" fmla="val 49967"/>
            </a:avLst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285" name=""/>
          <p:cNvSpPr/>
          <p:nvPr/>
        </p:nvSpPr>
        <p:spPr>
          <a:xfrm>
            <a:off x="5410080" y="1981080"/>
            <a:ext cx="5335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>
            <a:stCxn id="281" idx="3"/>
            <a:endCxn id="285" idx="2"/>
          </p:cNvCxnSpPr>
          <p:nvPr/>
        </p:nvCxnSpPr>
        <p:spPr>
          <a:xfrm>
            <a:off x="3408480" y="2522160"/>
            <a:ext cx="2002320" cy="640440"/>
          </a:xfrm>
          <a:prstGeom prst="curvedConnector5">
            <a:avLst>
              <a:gd name="adj1" fmla="val 49955"/>
              <a:gd name="adj2" fmla="val 50000"/>
              <a:gd name="adj3" fmla="val 49955"/>
            </a:avLst>
          </a:prstGeom>
          <a:ln w="9360">
            <a:solidFill>
              <a:srgbClr val="000000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35560" y="152280"/>
            <a:ext cx="2819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008000"/>
                </a:solidFill>
                <a:latin typeface="Times New Roman"/>
              </a:rPr>
              <a:t>Erreurs de frapp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587760" cy="4267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66840" y="1746360"/>
            <a:ext cx="434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liana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u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gusuttummariulauqsutig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ff"/>
                </a:solidFill>
                <a:latin typeface="Times New Roman"/>
              </a:rPr>
              <a:t>aliana</a:t>
            </a:r>
            <a:r>
              <a:rPr b="0" lang="en-CA" sz="2400" spc="-1" strike="noStrike" u="sng">
                <a:solidFill>
                  <a:srgbClr val="0000ff"/>
                </a:solidFill>
                <a:uFillTx/>
                <a:latin typeface="Times New Roman"/>
              </a:rPr>
              <a:t>i </a:t>
            </a:r>
            <a:r>
              <a:rPr b="0" lang="en-CA" sz="2400" spc="-1" strike="noStrike">
                <a:solidFill>
                  <a:srgbClr val="0000ff"/>
                </a:solidFill>
                <a:latin typeface="Times New Roman"/>
              </a:rPr>
              <a:t>gusuttummariulauqsutiglu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ᐊᓕᐊᓇ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ᐅ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ᒍᓱᑦᑐᒻᒪᕆᐅᓚᐅᖅᓱᑎᒡ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66ff"/>
                </a:solidFill>
                <a:latin typeface="Times New Roman"/>
              </a:rPr>
              <a:t>ᐊᓕᐊᓇ</a:t>
            </a:r>
            <a:r>
              <a:rPr b="0" lang="en-CA" sz="2400" spc="-1" strike="noStrike" u="sng">
                <a:solidFill>
                  <a:srgbClr val="3366ff"/>
                </a:solidFill>
                <a:uFillTx/>
                <a:latin typeface="Times New Roman"/>
              </a:rPr>
              <a:t>ᐃ</a:t>
            </a:r>
            <a:r>
              <a:rPr b="0" lang="en-CA" sz="2400" spc="-1" strike="noStrike">
                <a:solidFill>
                  <a:srgbClr val="3366ff"/>
                </a:solidFill>
                <a:latin typeface="Times New Roman"/>
              </a:rPr>
              <a:t>ᒍᓱᑦᑐᒻᒪᕆᐅᓚᐅᖅᓱᑎᒡ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57680" y="1981080"/>
            <a:ext cx="379440" cy="765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89" idx="3"/>
            <a:endCxn id="290" idx="2"/>
          </p:cNvCxnSpPr>
          <p:nvPr/>
        </p:nvCxnSpPr>
        <p:spPr>
          <a:xfrm flipV="1">
            <a:off x="4711680" y="2363040"/>
            <a:ext cx="846720" cy="159480"/>
          </a:xfrm>
          <a:prstGeom prst="curvedConnector5">
            <a:avLst>
              <a:gd name="adj1" fmla="val 49893"/>
              <a:gd name="adj2" fmla="val 50000"/>
              <a:gd name="adj3" fmla="val 49893"/>
            </a:avLst>
          </a:prstGeom>
          <a:ln w="9360">
            <a:solidFill>
              <a:srgbClr val="000000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40360" y="2060640"/>
            <a:ext cx="769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naissance de 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c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ffix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t de 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min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un m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116080" y="3200400"/>
            <a:ext cx="5186520" cy="3187800"/>
            <a:chOff x="2116080" y="3200400"/>
            <a:chExt cx="5186520" cy="3187800"/>
          </a:xfrm>
        </p:grpSpPr>
        <p:sp>
          <p:nvSpPr>
            <p:cNvPr id="77" name=""/>
            <p:cNvSpPr/>
            <p:nvPr/>
          </p:nvSpPr>
          <p:spPr>
            <a:xfrm>
              <a:off x="2116080" y="3733920"/>
              <a:ext cx="51865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7840" indent="-1778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ctionna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teur de recher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érificateur et correcteur d’orthograp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alyse grammatic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seignement de la lang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gramme d’exercice de la lang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écolte de statistiq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23280" y="3200400"/>
              <a:ext cx="174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27280" y="169920"/>
            <a:ext cx="4392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écomposition de mot inuktitu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1080" y="152280"/>
            <a:ext cx="43880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orrecteur d’orthographe (2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92520" y="2217600"/>
            <a:ext cx="2590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r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Lucida Sans Unicode"/>
                <a:ea typeface="Lucida Sans Unicode"/>
              </a:rPr>
              <a:t>ra</a:t>
            </a: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gumi</a:t>
            </a: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Lucida Sans Unicode"/>
                <a:ea typeface="Lucida Sans Unicode"/>
              </a:rPr>
              <a:t>ar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Lucida Sans Unicode"/>
                <a:ea typeface="Lucida Sans Unicode"/>
              </a:rPr>
              <a:t>raa</a:t>
            </a:r>
            <a:r>
              <a:rPr b="0" lang="fr-FR" sz="2000" spc="-1" strike="noStrike">
                <a:solidFill>
                  <a:srgbClr val="0000ff"/>
                </a:solidFill>
                <a:latin typeface="Lucida Sans Unicode"/>
                <a:ea typeface="Lucida Sans Unicode"/>
              </a:rPr>
              <a:t>g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ette ann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ksivau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Lucida Sans Unicode"/>
                <a:ea typeface="Lucida Sans Unicode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aa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Lucida Sans Unicode"/>
                <a:ea typeface="Lucida Sans Unicode"/>
              </a:rPr>
              <a:t>iksivautaa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. le Prési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uqat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Lucida Sans Unicode"/>
                <a:ea typeface="Times New Roman"/>
              </a:rPr>
              <a:t>uqaqt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. le Prési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3880" y="221472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rreur de frapp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voyelles long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9840" y="350352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aractères en t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1640" y="4567320"/>
            <a:ext cx="241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onson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anqu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62880" y="2217600"/>
            <a:ext cx="1654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ᐊᕐ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Lucida Sans Unicode"/>
                <a:ea typeface="Lucida Sans Unicode"/>
              </a:rPr>
              <a:t>ᕋ</a:t>
            </a: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ᒍᒥ</a:t>
            </a:r>
            <a:r>
              <a:rPr b="0" lang="fr-FR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ᐊᕐ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Times New Roman"/>
              </a:rPr>
              <a:t>ᕌ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ᒍ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ᐃᒃᓯᕙᐅ</a:t>
            </a:r>
            <a:r>
              <a:rPr b="0" lang="eu-ES" sz="2000" spc="-1" strike="noStrike" u="sng">
                <a:solidFill>
                  <a:srgbClr val="000000"/>
                </a:solidFill>
                <a:uFillTx/>
                <a:latin typeface="Lucida Sans Unicode"/>
                <a:ea typeface="Lucida Sans Unicode"/>
              </a:rPr>
              <a:t>ᐃ</a:t>
            </a:r>
            <a:r>
              <a:rPr b="0" lang="eu-E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ᑖ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ff"/>
                </a:solidFill>
                <a:latin typeface="Times New Roman"/>
              </a:rPr>
              <a:t>ᐃᒃᓯᕙᐅᑖ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ᐅᖃ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ᐅᖃ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ᖅ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087680" y="152280"/>
            <a:ext cx="17924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tatistiqu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71640" y="1773360"/>
            <a:ext cx="747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s un corpus (ex.: le Hansard du Nunavut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en de fois un suffixe donné est-il utilisé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en de fois est-il utilisé en conjonction avec un autre suffixe donné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s quelles proportions un suffixe donné est-il utilisé comparativement à un suffixe équivalent dans un autre dialec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l pourcentage de tous les mots est basé sur une racine donné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-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95280" y="836640"/>
            <a:ext cx="16779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État actu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29920" y="16416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ux de succès act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4840" y="1628640"/>
            <a:ext cx="1121040" cy="45972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2.7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47560" y="2327400"/>
            <a:ext cx="642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c d’essa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mots les plus fréqu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 Hansard du Nunavut (&gt;100 fo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32080" y="33940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che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79640" y="3443400"/>
            <a:ext cx="5796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c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nnes finales manqu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de données (morphème manquant; comportement morpho-phonologique inconnu; prono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eurs de frappe (voyelles longues/courtes; consonnes simples/multiples; caractères manquants/en tr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nctions manquantes dans l’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18320" y="1628640"/>
            <a:ext cx="1121040" cy="45972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5.4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21720" y="1744560"/>
            <a:ext cx="101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 avril 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61920" y="176040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 février 20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19640" y="138240"/>
            <a:ext cx="3600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nalyseur morphol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43800" y="152280"/>
            <a:ext cx="1295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ourc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880" y="19051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ionn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95800" y="1954080"/>
            <a:ext cx="566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alectal outline dictionar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A. Spalding) – Aivil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irnaisigutii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L. Schneider) – Nunav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qausiit tukingi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ununiq, North Baff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uit uqausillaringi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Taamusi Qumaq) - Nunav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3809880"/>
            <a:ext cx="200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ixes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isons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ologie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16240" y="3733920"/>
            <a:ext cx="6805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ffixes of the eskimo dialects of Cumber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insula and North Baffin Isl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K. Harper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aspects of the grammar of the eskimo dial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umberland Peninsula and North Baffin Isl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K. Harp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tionnaire des infixes de la langue esquima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L. Schnei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uktituorutît – Grammaire purement esquima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L. Schnei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uktitut – A grammar of North Baffin Dialect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A. Spalding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ory Inuktitut, et autres ouvrag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. Mal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uit uqausiqatigii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L.-J. Dora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80360" y="140760"/>
            <a:ext cx="151272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ialect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44920" y="2652840"/>
            <a:ext cx="210672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navut </a:t>
            </a:r>
            <a:r>
              <a:rPr b="0" i="1" lang="en-US" sz="1800" spc="-1" strike="noStrike">
                <a:solidFill>
                  <a:srgbClr val="f02e00"/>
                </a:solidFill>
                <a:latin typeface="Times New Roman"/>
              </a:rPr>
              <a:t>inuktit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04440" y="4343400"/>
            <a:ext cx="47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natsiavut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rad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1800" spc="-1" strike="noStrike">
                <a:solidFill>
                  <a:srgbClr val="f02e00"/>
                </a:solidFill>
                <a:latin typeface="Times New Roman"/>
              </a:rPr>
              <a:t>inutt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Kalaallit Nuna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ënlan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1800" spc="-1" strike="noStrike">
                <a:solidFill>
                  <a:srgbClr val="f02e00"/>
                </a:solidFill>
                <a:latin typeface="Times New Roman"/>
              </a:rPr>
              <a:t>kalaallis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74000" y="3267000"/>
            <a:ext cx="396936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navi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rd du Québe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02e00"/>
                </a:solidFill>
                <a:latin typeface="Times New Roman"/>
              </a:rPr>
              <a:t>inuttit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89320" y="149400"/>
            <a:ext cx="381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orphologie de l’inuktitu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177560" y="2133720"/>
            <a:ext cx="6522120" cy="1753200"/>
            <a:chOff x="1177560" y="2133720"/>
            <a:chExt cx="6522120" cy="1753200"/>
          </a:xfrm>
        </p:grpSpPr>
        <p:sp>
          <p:nvSpPr>
            <p:cNvPr id="91" name=""/>
            <p:cNvSpPr/>
            <p:nvPr/>
          </p:nvSpPr>
          <p:spPr>
            <a:xfrm>
              <a:off x="1177560" y="2133720"/>
              <a:ext cx="652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Racin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[Suffixe]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Terminaison grammatic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90160" y="2819520"/>
              <a:ext cx="73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SzPct val="7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n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SzPct val="7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ver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60320" y="2819520"/>
              <a:ext cx="1422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66ff"/>
                </a:buClr>
                <a:buSzPct val="7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nom-à-n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6666ff"/>
                </a:buClr>
                <a:buSzPct val="7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verbe-à-ver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6666ff"/>
                </a:buClr>
                <a:buSzPct val="7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nom-à-ver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6666ff"/>
                </a:buClr>
                <a:buSzPct val="7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verbe-à-n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93920" y="2819520"/>
              <a:ext cx="73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66ff"/>
                </a:buClr>
                <a:buSzPct val="7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n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6666ff"/>
                </a:buClr>
                <a:buSzPct val="7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6666ff"/>
                  </a:solidFill>
                  <a:latin typeface="Times New Roman"/>
                </a:rPr>
                <a:t>ver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37600" y="4221000"/>
            <a:ext cx="8741880" cy="2384640"/>
            <a:chOff x="237600" y="4221000"/>
            <a:chExt cx="8741880" cy="2384640"/>
          </a:xfrm>
        </p:grpSpPr>
        <p:sp>
          <p:nvSpPr>
            <p:cNvPr id="96" name=""/>
            <p:cNvSpPr/>
            <p:nvPr/>
          </p:nvSpPr>
          <p:spPr>
            <a:xfrm>
              <a:off x="1602000" y="4221000"/>
              <a:ext cx="399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umia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ju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liu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t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7600" y="5132520"/>
              <a:ext cx="874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cc33"/>
                  </a:solidFill>
                  <a:latin typeface="Times New Roman"/>
                </a:rPr>
                <a:t>bateau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gro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construir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quelqu’un dont l’occupation est d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+  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terminaison du pluri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200000">
              <a:off x="927720" y="4916880"/>
              <a:ext cx="152280" cy="1351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4920 h 1351080"/>
                <a:gd name="textAreaBottom" fmla="*/ 1316160 h 135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2280" y="568332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v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3325320" y="3023640"/>
              <a:ext cx="181080" cy="617544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160920 h 6175440"/>
                <a:gd name="textAreaBottom" fmla="*/ 6014520 h 617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71040" y="623736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structeur nav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42680" y="4602240"/>
              <a:ext cx="1338480" cy="55548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535040" y="4602240"/>
              <a:ext cx="1536480" cy="55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543040" y="4602240"/>
              <a:ext cx="1442880" cy="55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632120" y="4602240"/>
              <a:ext cx="115920" cy="55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33840" y="4602240"/>
              <a:ext cx="2222640" cy="55548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53120" y="150840"/>
            <a:ext cx="26798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Racines nomina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205740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umia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50520" y="2743200"/>
            <a:ext cx="60937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umiar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ua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ire (gros batea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umiar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jua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liu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ire des nav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umia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jua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liur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tier na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umiaq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ton b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umia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lqu’un qui a un b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89640" y="140760"/>
            <a:ext cx="239256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Racines verba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55920" y="206064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sin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orm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55200" y="2746440"/>
            <a:ext cx="6546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sinik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ung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je 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sinig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sin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q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qattaq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habituellement on les end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37960" y="6156360"/>
            <a:ext cx="50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* tiré des Hansard, en parlant des ours po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50080" y="145800"/>
            <a:ext cx="2882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Radicaux lexicalisé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70200" y="1557360"/>
            <a:ext cx="501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caux composites compl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racine + suffixe(s)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ément et régulièrement utili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 des rac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26840" y="4662360"/>
            <a:ext cx="50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aanniaqsiuq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irm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26480" y="5261040"/>
            <a:ext cx="72687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aanniasiuqt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qar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s ont une infirm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aanniasiuqt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qaq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i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nir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ecrutement d’infirm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66360" y="3398760"/>
            <a:ext cx="20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aanniaq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uq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aanni</a:t>
            </a:r>
            <a:r>
              <a:rPr b="0" lang="en-US" sz="2400" spc="-1" strike="noStrike" baseline="30000">
                <a:solidFill>
                  <a:srgbClr val="33cc33"/>
                </a:solidFill>
                <a:latin typeface="Times New Roman"/>
              </a:rPr>
              <a:t>(q)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aq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uq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4:00:07Z</dcterms:created>
  <dc:creator>Farleyb</dc:creator>
  <dc:description/>
  <dc:language>en-US</dc:language>
  <cp:lastModifiedBy>farleyb</cp:lastModifiedBy>
  <dcterms:modified xsi:type="dcterms:W3CDTF">2009-07-10T17:27:23Z</dcterms:modified>
  <cp:revision>40</cp:revision>
  <dc:subject/>
  <dc:title>Syllabics with French</dc:title>
</cp:coreProperties>
</file>